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gif" ContentType="image/gif"/>
  <Override PartName="/ppt/media/image9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545-F930-4201-8C10-1C2A151B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38C-C78C-4E63-9EA2-415254FE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9F1-C6D2-4C10-B09A-ADEDCEF7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0CD-D4F2-4683-8F95-47DD0A3A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9FA1-4A09-4DF0-9221-E60247B0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AFE1-0999-4A4D-AF28-83F8E241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4086-C5C3-430E-A3F5-CF7AAB01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0B41-FDE9-48F2-A931-4C0C4989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0CE2-96CB-4C17-A32A-D710B2E1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C55B-B6C0-4F6E-AC5D-8C608FF3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F9C5-C19A-4794-A8F1-A8541964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5EA-8987-43F4-B7CA-BDA2B8C4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8701-AB5F-43F3-B47A-57DAB3A9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FA5D-387C-417B-A755-DEB4949E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9310-E0E2-4564-930E-A7E321DA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330E-E2EE-4779-B1AF-30703361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E2F1-4879-461F-AA48-77135863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120-7EE0-480C-84D5-4FF3AA4B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D0C-1503-4F45-83BC-7F6B6343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A91-4A94-411A-AEDE-B94C7819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C28-02CB-473D-90CB-8762D5B1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3E0-CB7B-4E65-8BA4-1597B6AB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478-2477-43D6-B762-2D9F5A83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D84-C678-4BB8-B17C-5BFFBF46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EDBD-A63D-4C7E-8D60-C09203424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565A-F1BF-4F62-9191-21C488ADD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gdickins@odu.edu" TargetMode="External"/><Relationship Id="rId2" Type="http://schemas.openxmlformats.org/officeDocument/2006/relationships/hyperlink" Target="mailto:bstripling@schools.nyc.gov" TargetMode="External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a.org/ala/aasl/aaslproftools/learningstandards/standards.cfm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andards for the 2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Papyrus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 Century Lea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LMS Leadership Ret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August 3-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r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Four parts of each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kill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ispositions in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elf-Assessment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Ski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Key abilities needed for understanding, learning, thinking, and mastering su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Multiple lite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Critical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ocial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Inquiry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Content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0880" y="1986120"/>
            <a:ext cx="267336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41590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Dispositions in 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Ongoing beliefs and attitudes that guide thinking and intellectual behavior that can be measured through actions ta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Cu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Resi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Imagi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Refl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Self-evalu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776840" y="1600200"/>
            <a:ext cx="38210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Responsibil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Common behaviors used by independent learners in researching, investigating, and problem sol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Follow ethical &amp; legal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spect principals of Intellectual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ursue multiple perspectives &amp; balance of view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ractice safe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Contribute to the exchange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spect ideas &amp; experiences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251460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Self-Assessment Strateg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flections on one’s own learning to determine that the skills, dispositions, and responsibilities are ef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Processes of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Products of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Three-dire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pyru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Sum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pyru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For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pyru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Predi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752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93280" y="32004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78640" y="4572000"/>
            <a:ext cx="2634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Indicators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23623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14600" y="38098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5181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Sub-categories that describe what abilities students should demonstrate within each of the four strands of each standa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1676520"/>
          <a:ext cx="8001000" cy="29988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Standard 1:  Inquire, think critically, and gain knowledg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Strand 1.1: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Indicator 1.1.1: Follow an inquiry-based process in seeking knowledge in curricular subjects, and make the real-world connection for using this process in own lif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752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93280" y="32004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78640" y="4572000"/>
            <a:ext cx="2634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Indicators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5791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Bench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23623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38862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5181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Bench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Abilities students should demonstrate by the end of grades 2, 5, 8, 10 &amp; 12+ for each indic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Gail Dickinson</a:t>
            </a:r>
            <a:br>
              <a:rPr sz="4400"/>
            </a:br>
            <a:r>
              <a:rPr b="0" lang="en-US" sz="4400" spc="-1" strike="noStrike" u="sng">
                <a:solidFill>
                  <a:srgbClr val="0066ff"/>
                </a:solidFill>
                <a:uFillTx/>
                <a:latin typeface="Papyrus"/>
                <a:hlinkClick r:id="rId1"/>
              </a:rPr>
              <a:t>gdickins@odu.edu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Papyrus"/>
              </a:rPr>
              <a:t>Barbara Stripling</a:t>
            </a:r>
            <a:br>
              <a:rPr sz="4400"/>
            </a:br>
            <a:r>
              <a:rPr b="0" lang="en-US" sz="4400" spc="-1" strike="noStrike" u="sng">
                <a:solidFill>
                  <a:srgbClr val="0066ff"/>
                </a:solidFill>
                <a:uFillTx/>
                <a:latin typeface="Papyrus"/>
                <a:hlinkClick r:id="rId2"/>
              </a:rPr>
              <a:t>bstripling@schools.nyc.go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Bench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685800" y="1828800"/>
          <a:ext cx="8001000" cy="42814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Standard 1:  Inquire, think critically, and gain knowledg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Strand 1.1: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Indicator 1.1.1: Follow an inquiry-based process in seeking knowledge in curricular subjects, and make the real-world connection for using this process in own lif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Grade 5 Benchmark: Follow a process whenever pursuing new information through inquiry or researc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andards for th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2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Papyrus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 Century Lea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ALA | AASL Standards for the 21st-Century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The Standa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Learners use information literacy skills, resources and tool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Inquire, think critically, and gain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raw conclusions, make informed decisions, apply knowledge to new situations, and create new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hare knowledge and participate ethically and productively as members of our democratic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ursue personal and aesthetic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0292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pyrus"/>
              </a:rPr>
              <a:t>Get Se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Lesson:  Standards 3 &amp;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ossible Un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Elementary unit on im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Elementary through high school unit on theme of belonging and personal and cultur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Book discussion group for elementary through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ecision:  Book discussion group to introduce concepts of personal and cultur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Standard 3: </a:t>
            </a: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Share knowledge and participate ethically and productively as members of our democratic societ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kill: 3.1.2: Participate and collaborate as members of a social and intellectual network of lear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Disposition in Action 3.2.2: Show social responsibility by participating actively with others in learning situations and by contributing questions and ideas during group discu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andard 4: </a:t>
            </a: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ursue personal and aesthetic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kill 4.1.1: Read, view, and listen for pleasure and personal grow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sponsibility: 4.3.1 Participate in the social exchange of ideas, both electronically and in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Contribution to Group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What is the main idea that I contributed to the group discu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What two ideas from others caused me to rethink my own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How did I help the group reach consen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What did I do to make sure that the group discussion included and respected all me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Curriculum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ick one unit currently being done in your school that would be a good opportunity for integration of a skill, disposition, a responsibility, and/or a self-assessment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Learning Standards vs.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Learning Standards define what we expect students to be able to do as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31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Development of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Use the Lesson Plan Template to design a lesson to teach a skill within your un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You may also decide to include a disposition, responsibility, or self-assessment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(You may copy the template onto chart paper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Gallery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725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pyrus"/>
              </a:rPr>
              <a:t>Ac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Presenting the Standards to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Librar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District/B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chool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Legis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rofessional Ass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op Te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897280" y="1371600"/>
            <a:ext cx="3430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Developing An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Use Action Plan Grid to help you focus on what will be your first three actions to implement the new standards in your school or other work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110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Papyrus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Go forth and spread the word of the AASL National Standards for the 2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Papyrus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-Century Lea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Learning Standards vs.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Guidelines define what an exemplary school library media program looks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58676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pyrus"/>
              </a:rPr>
              <a:t>Get Read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Foundation of 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858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1752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23623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The Standa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Learners use information literacy skills, resources and tool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Inquire, think critically, and gain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raw conclusions, make informed decisions, apply knowledge to new situations, and create new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hare knowledge and participate ethically and productively as members of our democratic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ursue personal and aesthetic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1752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93280" y="32004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23623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8862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02:40:54Z</dcterms:created>
  <dc:creator>au</dc:creator>
  <dc:description/>
  <dc:language>en-US</dc:language>
  <cp:lastModifiedBy>Barbara Stripling</cp:lastModifiedBy>
  <dcterms:modified xsi:type="dcterms:W3CDTF">2008-07-13T00:53:19Z</dcterms:modified>
  <cp:revision>15</cp:revision>
  <dc:subject/>
  <dc:title>Slide 1</dc:title>
</cp:coreProperties>
</file>